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AFF8-E78F-421C-8D34-5733A09B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42F7-ED18-4D99-A060-913AD65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2D30-1951-4D60-8980-6549D64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C788-3E4A-4432-9BF5-643A555F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48B-CA3B-4F14-AAD7-52BC83AB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127F-D482-4330-BFB9-43B42AE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0641-80AF-44F3-9829-C085B182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B65-0DBC-486F-AC9E-027E314F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7D38-83D5-455B-8FD0-077CDC49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92E-F14F-4A15-B7C0-F4FAD9A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9EF-391A-4BAE-8F51-6EE10C6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8DF4-ABB7-4F8A-8FEC-8ED99E6E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181-C255-45C1-9CD4-0D2B1A5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A8C3-011B-438F-A69C-E0E11C5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8FEE-77B1-40EF-8190-43B67876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EEC-3225-4BA5-B5AC-FCDA2D5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B39-1406-41AC-A374-F13027C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CBAC-A91C-4C2B-BC97-1311F25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196F-9267-4E23-BBA7-1E7198F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9084-7984-408A-AE84-8FDF773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5641-9689-43B7-9883-7EC8DF99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80C1-5C14-4972-96E7-ED95BD1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3139-1C9A-456E-A081-59A10AB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5280-7EE0-4364-A218-660C3E1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DFB-ABDD-4CB3-BA64-18079B520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EEA-08A8-46A6-A7A4-9F82617AB5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: Rohan Krishnamurth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gara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estupendo,magnifico,y luj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rédi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ductor: roha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rito por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agen encontrada p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 agradecimiento especial 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fectos especiales de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ierte al español por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orporado© 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grande,bonito,y magnif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111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grande,incredible,y mod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05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lujoso,magnific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191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bañ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lujoso,bell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big bathroom photos"/>
          <p:cNvPicPr/>
          <p:nvPr/>
        </p:nvPicPr>
        <p:blipFill>
          <a:blip r:embed="rId1"/>
          <a:stretch/>
        </p:blipFill>
        <p:spPr>
          <a:xfrm>
            <a:off x="2438280" y="3352680"/>
            <a:ext cx="426744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a cuarto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muy grande,nevo,y bel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4229280" cy="24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ello,nuev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87880" cy="3144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 una pat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onito,grande,y magnif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jar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onito,magnifico,y nue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18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6:17Z</dcterms:created>
  <dc:creator>krishnamurthiroh</dc:creator>
  <dc:description/>
  <dc:language>en-US</dc:language>
  <cp:lastModifiedBy>krishnamurthiroh</cp:lastModifiedBy>
  <dcterms:modified xsi:type="dcterms:W3CDTF">2012-03-16T13:22:46Z</dcterms:modified>
  <cp:revision>23</cp:revision>
  <dc:subject/>
  <dc:title>La casa</dc:title>
</cp:coreProperties>
</file>